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C80BF-59D7-4BA9-B130-93A01C7A6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7D43-CD81-471C-9143-FE79C62E5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2A8D-D902-4D1C-9AA4-DCEB6DD04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16CA-5D20-4F9A-8609-F05EB9D33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3C4CF-D57A-4A62-84AD-6217E880B5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1DC0-F34B-48A8-A54F-5888318EF4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C780A-195E-4405-B773-BE9461F75E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49838-8C8B-4B2F-BDDD-C1F060F8B9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0D6BB-4C2C-4757-B21D-663535C461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14CC7-2A43-47A6-A124-7C0DCEF251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ED83C-B9E6-462A-925A-BF20E4DF8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F792-2A25-4009-841F-841090F24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0499B-B3C9-4F26-BDD3-D4DC1532D8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EBB50-CB17-4E6A-A893-B89B94AD92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D7904-92A5-4FB4-AB4F-CE2C96F054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F7976-A12D-4E62-9B05-A61EA4DFE8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342F7-A82D-4F04-AD5E-5E4805717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298F-340A-4DFC-AF54-BE811082E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638E-199B-4DAE-8945-641D4BCC8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93E7-1BF9-4129-83CF-435FE26C5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CAEF-8896-48B8-BC3D-3CF70E294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4F0AE-8773-4E99-94F8-6F157B47C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D10A5-9859-41D1-A877-FDD4C928E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5264-ECAB-48C4-A8D2-513A03E92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EC8F66E-297F-482E-80D1-7897E30664E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3C5935D-11BC-43FB-A4E6-A8AFEB058B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0844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38040"/>
            <a:ext cx="250488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D7DBD4F-FF99-49D2-80D9-AE3245E33F2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B82D496-5879-46CA-8AFE-A74E5E7480F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9-01-24T11:11:59Z</dcterms:modified>
  <cp:revision>257</cp:revision>
  <dc:subject/>
  <dc:title>8: SAMPLE SIZE DETERMINATION</dc:title>
</cp:coreProperties>
</file>